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7520-1A73-40A4-B8FD-B4722B4E4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C5CA-A76A-4337-9E92-F4C73DF8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8055-9B5C-4896-8BA0-F97A1D3EA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15DB-39F5-45BA-B1ED-4209AFC15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E4E9-B87A-4BF0-8B4E-0A3005DD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9210-C60D-41EC-AF20-707AE728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242D-F19C-4B2A-BCA6-BC388D59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EBE7-0941-4CE8-8C34-15380D67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86CC-286E-4927-A6FF-15311330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A277-4516-48F1-8F7A-FA66E1CC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9C4A-7F8F-48A5-B1D6-CFECC2A0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B68D-34D7-40C7-B8F9-0FF7F23F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 April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5480" y="6248520"/>
            <a:ext cx="335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ussois, F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AE94-065C-4D29-A03A-105A40B7A7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477120" y="6188040"/>
            <a:ext cx="2057400" cy="593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52424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URLE INDUSTRIE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cent Photomultiplier and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vice Development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1760" y="2895120"/>
            <a:ext cx="73911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Zurich Cn BT"/>
              </a:rPr>
              <a:t>NNN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Zurich Cn BT"/>
              </a:rPr>
              <a:t>Robert Caraccio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Zurich Cn BT"/>
              </a:rPr>
              <a:t>8 April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76480" y="4876920"/>
            <a:ext cx="30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RLE INDUS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lanacon Characteristic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patial resolution can be tailored by choice of faceplate, MCP, and pixilated ano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ood photon counting properties at gains of 0.2 – 2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ak to Valley typically &gt; 2:1 with uniform illumination of facepla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utput is relatively insensitive to external magnetic fields due to proximity of the cathode, MCP, and an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ood pulse height resolu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0% FWHM, 2” NaI crystal, 662keV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hode uniformity within 10% over full active are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ode uniformity ~ 1.5:1 over the 2” active area in analog m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oal is to obtain 1.2:1 anode uniformit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oss-talk &lt; 1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lanacon Characteristics (cont’d)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5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 pore size with 32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 pitch, investigating the use of 10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 pore siz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0:1 L/D ratio, probably moving to 60:1 for the 10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 de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ins of up to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ith current MC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nded dynamic range g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in is very stable up to ~3% of strip curr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vron configu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mproved Open Area Ratio Planacon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ckaging is streamlined to maximize detector area relative to device dimen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28” sq. vs. 2.50” sq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.45” vs. 0.65” h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6% vs. 66% O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8 gms vs. 128 gm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uture Direction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 the anode configurations offe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rove Open Area Ratio for tiling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 variants optimized f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oton counting with high spatial resol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w cross-talk and magnetic field immun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yogenic Ap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ltra-low backgr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 other geometries as required by specific markets and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cent PMT and Module Offering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575B, a low cost variant of the 857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ndow material is 82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embly technique is simplified for improved manufacturabil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575Q, Quartz faceplate for UV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575B-800, 8575B module with integrated HVPS and div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3092 module, short 1” tube for oil well logging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8575B-800 Modu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0" t="16000" r="0" b="1600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8575B-800 Characteristic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cuum potted – ideal for high altitude balloon payloa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 noise ( 10mV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 power (12V @ 1m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ltage or resistance control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rge Area PMT Program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vely working on Phase II objectives of a DOE SBIR to develop a 20” diameter PMT with cost &lt; $0.75/c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f active area, including VDN and cab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also develop 2”, 5”, and 8” vari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nt to establish close ties with researchers associated with proton-decay and neutrino experiments to aid in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resents a BURLE commitment to becoming a major player in the HEP mark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quirement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685800" y="1828800"/>
          <a:ext cx="7772400" cy="4375080"/>
        </p:xfrm>
        <a:graphic>
          <a:graphicData uri="http://schemas.openxmlformats.org/drawingml/2006/table">
            <a:tbl>
              <a:tblPr/>
              <a:tblGrid>
                <a:gridCol w="2690640"/>
                <a:gridCol w="1046160"/>
                <a:gridCol w="747720"/>
                <a:gridCol w="32878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ram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m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ectral Respon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0 - 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sponse &lt; 300nm not very useful due to attenuation length in wa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thode QE at 390n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sire as high as possi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llection Effici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sire as high as possi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x 10</a:t>
                      </a:r>
                      <a:r>
                        <a:rPr b="0" lang="en-US" sz="1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rk Cou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c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sire 3 – 4 kHz at 30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ransit Time Spread (FWH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sire 3 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otocathode area, head-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r>
                        <a:rPr b="0" lang="en-US" sz="1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ized to give lowest cost per unit a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igh Volt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uld be high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ss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t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 outside – inside pressure difference. Could use acrylic pressure vessel if need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ckag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DN + HV and signal cables, hermetically seal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emical resist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ure H</a:t>
                      </a:r>
                      <a:r>
                        <a:rPr b="0" lang="en-US" sz="12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hotocathode Design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ments for highest possible QE and lowest possible dark counts are in conflic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de-study will be performed and initial PMT builds will be designed to optimize these parameters. Dark counts of 3kcps are possible, but QE will probably be limited to 20% max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on multiplier design will influence the dark counts, and will be considered in that desig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URLE INDUSTRIES Overview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RLE INDUSTRIES, IN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onversion Tub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wer Tub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l Est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RLE ELECTRO-OPTICS, IN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RLE INDUSTRIES Gmb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RLE INDUSTRIES UK LIMI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RLE deMex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urrent Activitie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erfacing with glass and bulb manufacturers to optimize cost-effective bulb design and manufacturing approac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EA and environmental testing to validate mechanical integrity of bul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mploying 2-D and 3-D electron optics model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athode to Dy1 fiel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y1 to the electron multiplier fiel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sign and implement novel focusing elements.  Required for a bulb with a small nec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alidated our design concepts on the 2” PMT.  Will continue with the 5”, 8”, and 20” PMT’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viewing different photocathode processes and or design to optimize balance of QE and Dark cou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ablished a high volume Manufacturing facility in Mexico to maintain production of PET and SPECT PMT’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roducing new product lines to further service both the Medical Imaging Business, as well as other applications including HEP, oil well logging, X-ray digitiz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fer Modules to make the application of PMT’s more convenient to the us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ing large PMT formats to service the HEP commun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re Competencie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version Tubes, Lancaster 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ventional PMT design and fabr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hotocathode proces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age tube design and fabr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MT packag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ectronics: VDN, Miniature HVPS, Front-end electron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2057400"/>
            <a:ext cx="3962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wer Tubes, Lancaster 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sign and fabrication of vacuum tubes for power generation and swi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lating and environmental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eramic-to-Metal joining techn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O, Sturbridge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crochannel 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nnel multipl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ber op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MT Market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dical Imag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intain ~ 30% market share and grow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vide high-volume tubes for both SPECT and P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presence in general spectroscopy, scintillation counting, and H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begun to target the HEP market more aggressive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velopment of the PLANACON fami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st competitive fast timing PMTs such as the 8575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BIR grant to develop large area PM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cent Product Development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ac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MT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lanacon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MCP-PMT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 inch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quare fla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MT with dual MCP multiplie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odes, 2x2 and 8x8 configurations. Additional configurations avail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-alkali cathode on quartz faceplate or cryogenic bi-alkal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asily tiled, low profile, photon counting, good time resolution, multi-anod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473720" y="2389320"/>
            <a:ext cx="4289400" cy="273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CP-PMT Construction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914400" y="2549520"/>
            <a:ext cx="7467480" cy="1143000"/>
            <a:chOff x="914400" y="2549520"/>
            <a:chExt cx="7467480" cy="1143000"/>
          </a:xfrm>
        </p:grpSpPr>
        <p:grpSp>
          <p:nvGrpSpPr>
            <p:cNvPr id="59" name=""/>
            <p:cNvGrpSpPr/>
            <p:nvPr/>
          </p:nvGrpSpPr>
          <p:grpSpPr>
            <a:xfrm>
              <a:off x="914400" y="2549520"/>
              <a:ext cx="7467480" cy="914400"/>
              <a:chOff x="914400" y="2549520"/>
              <a:chExt cx="7467480" cy="914400"/>
            </a:xfrm>
          </p:grpSpPr>
          <p:sp>
            <p:nvSpPr>
              <p:cNvPr id="60" name=""/>
              <p:cNvSpPr/>
              <p:nvPr/>
            </p:nvSpPr>
            <p:spPr>
              <a:xfrm>
                <a:off x="914400" y="2549520"/>
                <a:ext cx="7467480" cy="1476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14400" y="2701800"/>
                <a:ext cx="228600" cy="228600"/>
              </a:xfrm>
              <a:prstGeom prst="rect">
                <a:avLst/>
              </a:prstGeom>
              <a:solidFill>
                <a:srgbClr val="ffe8d1"/>
              </a:solidFill>
              <a:ln w="9360">
                <a:solidFill>
                  <a:srgbClr val="ffe8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90360" y="2701800"/>
                <a:ext cx="15264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914400" y="3006720"/>
                <a:ext cx="228600" cy="152280"/>
              </a:xfrm>
              <a:prstGeom prst="rect">
                <a:avLst/>
              </a:prstGeom>
              <a:solidFill>
                <a:srgbClr val="ffe8d1"/>
              </a:solidFill>
              <a:ln w="9360">
                <a:solidFill>
                  <a:srgbClr val="ffe8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914400" y="2930400"/>
                <a:ext cx="380880" cy="763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14400" y="3235320"/>
                <a:ext cx="228600" cy="152280"/>
              </a:xfrm>
              <a:prstGeom prst="rect">
                <a:avLst/>
              </a:prstGeom>
              <a:solidFill>
                <a:srgbClr val="ffe8d1"/>
              </a:solidFill>
              <a:ln w="9360">
                <a:solidFill>
                  <a:srgbClr val="ffe8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914400" y="3159000"/>
                <a:ext cx="380880" cy="763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V="1">
                <a:off x="914400" y="3387240"/>
                <a:ext cx="7467480" cy="76320"/>
              </a:xfrm>
              <a:prstGeom prst="rect">
                <a:avLst/>
              </a:prstGeom>
              <a:solidFill>
                <a:srgbClr val="ffe8d1"/>
              </a:solidFill>
              <a:ln w="9360">
                <a:solidFill>
                  <a:srgbClr val="ffe8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153280" y="2701800"/>
                <a:ext cx="228600" cy="228600"/>
              </a:xfrm>
              <a:prstGeom prst="rect">
                <a:avLst/>
              </a:prstGeom>
              <a:solidFill>
                <a:srgbClr val="ffe8d1"/>
              </a:solidFill>
              <a:ln w="9360">
                <a:solidFill>
                  <a:srgbClr val="ffe8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153280" y="2701800"/>
                <a:ext cx="15228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153280" y="3006720"/>
                <a:ext cx="228600" cy="152280"/>
              </a:xfrm>
              <a:prstGeom prst="rect">
                <a:avLst/>
              </a:prstGeom>
              <a:solidFill>
                <a:srgbClr val="ffe8d1"/>
              </a:solidFill>
              <a:ln w="9360">
                <a:solidFill>
                  <a:srgbClr val="ffe8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001000" y="2930400"/>
                <a:ext cx="380880" cy="763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153280" y="3235320"/>
                <a:ext cx="228600" cy="152280"/>
              </a:xfrm>
              <a:prstGeom prst="rect">
                <a:avLst/>
              </a:prstGeom>
              <a:solidFill>
                <a:srgbClr val="ffe8d1"/>
              </a:solidFill>
              <a:ln w="9360">
                <a:solidFill>
                  <a:srgbClr val="ffe8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8001000" y="3159000"/>
                <a:ext cx="380880" cy="763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218960" y="3006720"/>
                <a:ext cx="6858000" cy="763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218960" y="3083040"/>
                <a:ext cx="6858000" cy="759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1371600" y="338760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209680" y="3387600"/>
              <a:ext cx="6098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48120" y="338760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886200" y="338760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724280" y="3387600"/>
              <a:ext cx="6098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562720" y="338760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477120" y="338760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15200" y="338760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76520" y="33876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867280" y="33876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029200" y="33876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91120" y="33876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14600" y="33876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52680" y="33876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781680" y="33876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620120" y="33876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5562000" y="18637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cep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3080" y="475920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ode &amp; P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26440" y="182880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um S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69040" y="4648320"/>
            <a:ext cx="14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ual M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60480" y="422604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P Re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17400" y="407340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ramic Insul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543800" y="3083040"/>
            <a:ext cx="685800" cy="9144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1066320" y="2930040"/>
            <a:ext cx="762120" cy="1295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429000" y="3083040"/>
            <a:ext cx="304920" cy="14889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410080" y="3463920"/>
            <a:ext cx="381240" cy="13716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066320" y="2244600"/>
            <a:ext cx="762120" cy="4572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562360" y="2244600"/>
            <a:ext cx="609480" cy="3049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46280" y="5299200"/>
            <a:ext cx="75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acing between faceplate and MCP and MCP and anode can be varied for different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MT Construction/Processing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on multiplier is supported by bulb spacers and leads to the 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elope is evacuated through an exhaust tub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thode processed in-situ with Sb and alkali dispens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p-off of tubulation using flame or electric he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48240" y="247644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62920" y="2476440"/>
            <a:ext cx="228240" cy="22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334120" y="2476440"/>
            <a:ext cx="227520" cy="22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2590920"/>
            <a:ext cx="0" cy="240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4120" y="2590920"/>
            <a:ext cx="0" cy="240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5334120" y="4875840"/>
            <a:ext cx="227520" cy="22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7162920" y="4875840"/>
            <a:ext cx="228240" cy="22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48240" y="51055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91240" y="51055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9920" y="5105520"/>
            <a:ext cx="228240" cy="22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477120" y="5105520"/>
            <a:ext cx="227520" cy="22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48520" y="521964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521964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4876920"/>
            <a:ext cx="0" cy="571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34320" y="4876920"/>
            <a:ext cx="0" cy="571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19920" y="4876920"/>
            <a:ext cx="0" cy="571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48520" y="4876920"/>
            <a:ext cx="0" cy="571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4876920"/>
            <a:ext cx="0" cy="571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05720" y="4876920"/>
            <a:ext cx="0" cy="571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91320" y="3733920"/>
            <a:ext cx="11430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019920" y="3962520"/>
            <a:ext cx="4564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791680" y="3276000"/>
            <a:ext cx="9136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6019920" y="4075920"/>
            <a:ext cx="4564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34400" y="4305240"/>
            <a:ext cx="4564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6362640" y="4304520"/>
            <a:ext cx="4564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45338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410080" y="35049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315200" y="35049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34040" y="3505320"/>
            <a:ext cx="11448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3429000"/>
            <a:ext cx="1067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b b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48440" y="3733920"/>
            <a:ext cx="114480" cy="1143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403848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lkal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ann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162920" y="4876920"/>
            <a:ext cx="0" cy="571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4876920"/>
            <a:ext cx="0" cy="571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24280" y="5219640"/>
            <a:ext cx="762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91240" y="5638680"/>
            <a:ext cx="1790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xhaust tub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5447880" y="2590920"/>
            <a:ext cx="6858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248520" y="2590920"/>
            <a:ext cx="102852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259092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u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48520" y="3619440"/>
            <a:ext cx="228600" cy="34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6600" y="4038480"/>
            <a:ext cx="304920" cy="381240"/>
          </a:xfrm>
          <a:prstGeom prst="irregularSeal1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2514600"/>
            <a:ext cx="16002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43800" y="32004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yn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6629040" y="3505320"/>
            <a:ext cx="106668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62720" y="1981080"/>
            <a:ext cx="1790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hotocath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10080" y="373392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86400" y="49528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638680" y="37339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49528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867280" y="41911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67280" y="41911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4120" y="3505320"/>
            <a:ext cx="75960" cy="759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315200" y="3505320"/>
            <a:ext cx="76320" cy="759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CP-PMT Operation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-34920" y="2427120"/>
            <a:ext cx="22734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e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cath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0520" y="3429000"/>
            <a:ext cx="190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ual M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1760" y="5105520"/>
            <a:ext cx="152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33560" y="3505320"/>
            <a:ext cx="4952880" cy="15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33560" y="3657600"/>
            <a:ext cx="495288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905120" y="2818440"/>
            <a:ext cx="4952880" cy="75960"/>
          </a:xfrm>
          <a:prstGeom prst="rect">
            <a:avLst/>
          </a:prstGeom>
          <a:solidFill>
            <a:srgbClr val="ff0066"/>
          </a:solidFill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990960" y="2895480"/>
            <a:ext cx="30384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90960" y="3505320"/>
            <a:ext cx="152280" cy="15228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5257800"/>
            <a:ext cx="5029200" cy="76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371840" y="5334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000240" y="3657600"/>
            <a:ext cx="1980720" cy="3047760"/>
            <a:chOff x="3000240" y="3657600"/>
            <a:chExt cx="1980720" cy="3047760"/>
          </a:xfrm>
        </p:grpSpPr>
        <p:sp>
          <p:nvSpPr>
            <p:cNvPr id="172" name=""/>
            <p:cNvSpPr/>
            <p:nvPr/>
          </p:nvSpPr>
          <p:spPr>
            <a:xfrm flipH="1">
              <a:off x="3990600" y="3657600"/>
              <a:ext cx="152280" cy="1522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457440" y="3809880"/>
              <a:ext cx="1066320" cy="28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458160" y="3809880"/>
              <a:ext cx="1065600" cy="28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00960" y="3809880"/>
              <a:ext cx="1980000" cy="28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000240" y="3809880"/>
              <a:ext cx="1980720" cy="28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3762360" y="3809880"/>
              <a:ext cx="456480" cy="28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62720" y="3809880"/>
              <a:ext cx="456480" cy="28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4645800" y="4267080"/>
            <a:ext cx="193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in ~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27440" y="2971800"/>
            <a:ext cx="22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elect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44960" y="2971800"/>
            <a:ext cx="195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~ 200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44960" y="4343400"/>
            <a:ext cx="195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~ 200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45320" y="3505320"/>
            <a:ext cx="20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~ 2000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962520" y="1752120"/>
            <a:ext cx="330120" cy="914760"/>
            <a:chOff x="3962520" y="1752120"/>
            <a:chExt cx="330120" cy="914760"/>
          </a:xfrm>
        </p:grpSpPr>
        <p:sp>
          <p:nvSpPr>
            <p:cNvPr id="185" name=""/>
            <p:cNvSpPr/>
            <p:nvPr/>
          </p:nvSpPr>
          <p:spPr>
            <a:xfrm>
              <a:off x="3962520" y="1904760"/>
              <a:ext cx="330120" cy="457200"/>
            </a:xfrm>
            <a:custGeom>
              <a:avLst/>
              <a:gdLst/>
              <a:ahLst/>
              <a:rect l="l" t="t" r="r" b="b"/>
              <a:pathLst>
                <a:path w="208" h="288">
                  <a:moveTo>
                    <a:pt x="112" y="0"/>
                  </a:moveTo>
                  <a:cubicBezTo>
                    <a:pt x="56" y="16"/>
                    <a:pt x="0" y="32"/>
                    <a:pt x="16" y="48"/>
                  </a:cubicBezTo>
                  <a:cubicBezTo>
                    <a:pt x="32" y="64"/>
                    <a:pt x="208" y="80"/>
                    <a:pt x="208" y="96"/>
                  </a:cubicBezTo>
                  <a:cubicBezTo>
                    <a:pt x="208" y="112"/>
                    <a:pt x="16" y="128"/>
                    <a:pt x="16" y="144"/>
                  </a:cubicBezTo>
                  <a:cubicBezTo>
                    <a:pt x="16" y="160"/>
                    <a:pt x="208" y="176"/>
                    <a:pt x="208" y="192"/>
                  </a:cubicBezTo>
                  <a:cubicBezTo>
                    <a:pt x="208" y="208"/>
                    <a:pt x="32" y="224"/>
                    <a:pt x="16" y="240"/>
                  </a:cubicBezTo>
                  <a:cubicBezTo>
                    <a:pt x="0" y="256"/>
                    <a:pt x="96" y="280"/>
                    <a:pt x="112" y="28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140360" y="2361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140360" y="17521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942720" y="1905120"/>
            <a:ext cx="15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1905120" y="2666520"/>
            <a:ext cx="4952880" cy="152640"/>
          </a:xfrm>
          <a:prstGeom prst="rect">
            <a:avLst/>
          </a:prstGeom>
          <a:solidFill>
            <a:srgbClr val="ccccff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1T17:03:25Z</dcterms:created>
  <dc:creator>Robert Caracciolo</dc:creator>
  <dc:description/>
  <dc:language>en-US</dc:language>
  <cp:lastModifiedBy>caracciolor</cp:lastModifiedBy>
  <dcterms:modified xsi:type="dcterms:W3CDTF">2005-04-08T10:17:51Z</dcterms:modified>
  <cp:revision>82</cp:revision>
  <dc:subject/>
  <dc:title>NNN05</dc:title>
</cp:coreProperties>
</file>